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399F-24D1-4422-BC89-34D9B813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E0FF-7FDE-4F0A-8777-60DF9D9A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C48F-B024-43D8-A3DF-CE3C240E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41C3-C4E0-4503-A0FB-F3F33E9A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589A-3BB8-47D2-9B09-87AC02E4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284D-23CB-49DA-BFAD-032B4FA9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DD0D-16DD-464C-93BB-FA089203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6C5-A947-4DFB-9490-4C29CABA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6EAB-38E7-4990-AAAA-116B0616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CD1-ACAB-4D3F-9100-471685CC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F81-822F-40E1-9FA1-BECB8A3C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15F-1B19-465B-AA02-0AD1D234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41E7-9BA6-4CAC-801A-364208FEA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cc00"/>
                </a:solidFill>
                <a:latin typeface="Arial"/>
              </a:rPr>
              <a:t>Profession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292720" y="836640"/>
            <a:ext cx="3152880" cy="5172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22400" y="825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8366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1200" y="3141720"/>
            <a:ext cx="421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Arial Black"/>
              </a:rPr>
              <a:t>POLI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66"/>
                </a:solidFill>
                <a:latin typeface="Arial Black"/>
              </a:rPr>
              <a:t>OFFIC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43120" y="2266920"/>
            <a:ext cx="156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60093"/>
                </a:solidFill>
                <a:latin typeface="Arial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84640" y="4824360"/>
            <a:ext cx="424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d60093"/>
                </a:solidFill>
                <a:latin typeface="Arial"/>
              </a:rPr>
              <a:t>magicia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284720" y="476280"/>
            <a:ext cx="38764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1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29120" cy="5172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651640" y="2133720"/>
            <a:ext cx="171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Arial"/>
              </a:rPr>
              <a:t>1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50920" y="5229360"/>
            <a:ext cx="4984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Arial"/>
              </a:rPr>
              <a:t>JUGGL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724360" y="2852640"/>
            <a:ext cx="3152880" cy="3791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49080" y="357336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0360" y="692280"/>
            <a:ext cx="373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9900"/>
                </a:solidFill>
                <a:latin typeface="Arial"/>
              </a:rPr>
              <a:t>ACTO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"/>
                            </p:stCondLst>
                            <p:childTnLst>
                              <p:par>
                                <p:cTn id="2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2857680" cy="4476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859280" y="981000"/>
            <a:ext cx="163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77777"/>
                </a:solidFill>
                <a:latin typeface="Arial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0920" y="3933720"/>
            <a:ext cx="419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777777"/>
                </a:solidFill>
                <a:latin typeface="Arial"/>
              </a:rPr>
              <a:t>musicia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68920" y="928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95480" y="596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26000" y="712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14000" y="5087880"/>
            <a:ext cx="297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ffff"/>
                </a:solidFill>
                <a:latin typeface="Arial"/>
              </a:rPr>
              <a:t>acrob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7120" y="947880"/>
            <a:ext cx="131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486320" cy="5505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705280" y="88272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3300"/>
                </a:solidFill>
                <a:latin typeface="Arial"/>
              </a:rPr>
              <a:t>1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04720" y="2637000"/>
            <a:ext cx="395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663300"/>
                </a:solidFill>
                <a:latin typeface="Arial"/>
              </a:rPr>
              <a:t>Mime-arti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133880" cy="5505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77800" y="24922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1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560" y="4508640"/>
            <a:ext cx="41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0066"/>
                </a:solidFill>
                <a:latin typeface="Arial"/>
              </a:rPr>
              <a:t>comedia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33440" y="1257480"/>
            <a:ext cx="6477120" cy="4343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97080" y="26028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50880" y="5516640"/>
            <a:ext cx="600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99cc00"/>
                </a:solidFill>
                <a:latin typeface="Arial"/>
              </a:rPr>
              <a:t>Pavement arti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es-ES" sz="8000" spc="-1" strike="noStrike">
                <a:solidFill>
                  <a:srgbClr val="ff0000"/>
                </a:solidFill>
                <a:latin typeface="Arial Black"/>
              </a:rPr>
              <a:t>Where</a:t>
            </a:r>
            <a:br>
              <a:rPr sz="8000"/>
            </a:br>
            <a:r>
              <a:rPr b="0" lang="es-ES" sz="8000" spc="-1" strike="noStrike">
                <a:solidFill>
                  <a:srgbClr val="ff0000"/>
                </a:solidFill>
                <a:latin typeface="Arial Black"/>
              </a:rPr>
              <a:t>can we find some of these artists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8360" y="6206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78960" y="4869000"/>
            <a:ext cx="429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00"/>
                </a:solidFill>
                <a:latin typeface="Comic Sans MS"/>
              </a:rPr>
              <a:t>DENTIS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762440" cy="4638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76500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2000" y="5013360"/>
            <a:ext cx="413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WAIT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3466800" cy="517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8360" y="10526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cc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5229360"/>
            <a:ext cx="295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ffcc"/>
                </a:solidFill>
                <a:latin typeface="Arial"/>
              </a:rPr>
              <a:t>sing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68360" y="177840"/>
            <a:ext cx="4680000" cy="4680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3080" y="4284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99ff"/>
                </a:solidFill>
                <a:latin typeface="Comic Sans MS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0560" y="5013360"/>
            <a:ext cx="426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3399ff"/>
                </a:solidFill>
                <a:latin typeface="Comic Sans MS"/>
              </a:rPr>
              <a:t>plumb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4403880" cy="4140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141300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5084640"/>
            <a:ext cx="436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996600"/>
                </a:solidFill>
                <a:latin typeface="Arial"/>
              </a:rPr>
              <a:t>secretar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76720" y="836640"/>
            <a:ext cx="3048120" cy="5172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20880" y="27813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000"/>
                </a:solidFill>
                <a:latin typeface="Comic Sans MS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62064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65040" y="692280"/>
            <a:ext cx="618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762440" cy="2857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16600" y="18900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0099"/>
                </a:solidFill>
                <a:latin typeface="Arial Black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9640" y="522936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99"/>
                </a:solidFill>
                <a:latin typeface="Arial Black"/>
              </a:rPr>
              <a:t>DANCE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4703760" cy="6193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05440" y="4316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330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88600" y="3573360"/>
            <a:ext cx="4831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Comic Sans MS"/>
              </a:rPr>
              <a:t>CARPENT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1:05:20Z</dcterms:created>
  <dc:creator>AJR</dc:creator>
  <dc:description/>
  <dc:language>en-US</dc:language>
  <cp:lastModifiedBy>profesor</cp:lastModifiedBy>
  <dcterms:modified xsi:type="dcterms:W3CDTF">2009-09-30T11:33:07Z</dcterms:modified>
  <cp:revision>5</cp:revision>
  <dc:subject/>
  <dc:title>Professions</dc:title>
</cp:coreProperties>
</file>